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3F7B-CD24-4DD5-BCBD-CB18A2FA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2BD-9042-40B9-B472-553B8B47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8C1-90B4-4ADB-8680-AD746FA8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F2B-B615-4662-9D41-3936033B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43F3-EFBF-4172-B8B0-F736D66B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1DDB-41BA-4AA3-83A1-7F48D8C5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FB41-A65F-4BF9-B0E2-DD6D31AD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EA8A-C430-4E4E-B16C-B2A001C3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8958-D557-49D4-AA40-0FE0F6A5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6BCD-A918-4103-A88C-20CAA4E9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EA98-DDDA-46C4-B4B7-F427E891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2CF-0C58-40BF-A9AC-7F5A98E6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701C-79CC-49A6-97BD-A0301757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78EB-14CD-49BF-AC9C-45E9A462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225C-0480-4D73-B6E1-2506513B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8BAB-5E14-497C-A68D-66BFEE5D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245C-3622-488B-902B-2AFEC64C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A7D-A3E0-4ECE-94DD-1661A3EF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51A-B362-4402-951E-729E4A5F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515-9F09-4251-9017-363D74C1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6FBD-429A-4F70-ACC3-2B9BE087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48A-D996-42A7-A01E-D571FB07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334-B2B3-4DD7-AA0F-E03CEADE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B95-DB21-4627-A889-4D8DA0A8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E04E-AC4D-4BAE-9B94-77AFA8B899E4}" type="slidenum">
              <a:rPr b="0" lang="el-G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7E08-703D-4EE5-86A4-5F27AA45F53B}" type="slidenum">
              <a:rPr b="0" lang="el-G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Δοκιμαστική παρουσίαση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Για τ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kim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Κίνηση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Κίνηση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Κίνηση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Κίνηση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Κίνησ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23:10Z</dcterms:created>
  <dc:creator>.</dc:creator>
  <dc:description/>
  <dc:language>en-US</dc:language>
  <cp:lastModifiedBy>.</cp:lastModifiedBy>
  <dcterms:modified xsi:type="dcterms:W3CDTF">2011-05-30T06:25:16Z</dcterms:modified>
  <cp:revision>2</cp:revision>
  <dc:subject/>
  <dc:title>Δοκιμαστική παρουσίαση</dc:title>
</cp:coreProperties>
</file>